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0E2-1411-45F9-8839-A792F9AC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EDD-A821-4203-8942-C244D082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FE0-4F43-40E8-A39D-1D39C7EF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1EBD-B379-4C3B-B459-ADBFBE3F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A60-1931-468A-A0EF-8B38C891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A66E-F717-4966-901D-39690A09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6D58-D28B-4902-A403-A06C7A2E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5E56-9C22-4FB3-BA26-806E73C2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750A-8B9E-4BB1-956C-FBFBE0B6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261D-626F-4FD3-9840-86C04FBD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93FD-2AD8-4202-BA1D-D2F7E1F9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0C3-768F-41FE-A59E-EDA90451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D8A8-4F9D-44A0-AFA6-0DA1D65BEE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0040" y="2936880"/>
            <a:ext cx="44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a mujer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mira </a:t>
            </a:r>
            <a:r>
              <a:rPr b="0" lang="en-GB" sz="2000" spc="-1" strike="noStrike">
                <a:solidFill>
                  <a:srgbClr val="00ff00"/>
                </a:solidFill>
                <a:latin typeface="Comic Sans MS"/>
              </a:rPr>
              <a:t>un barco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enorme.</a:t>
            </a:r>
            <a:r>
              <a:rPr b="0" lang="en-GB" sz="20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96800" y="264960"/>
            <a:ext cx="5702400" cy="2400480"/>
            <a:chOff x="496800" y="264960"/>
            <a:chExt cx="5702400" cy="2400480"/>
          </a:xfrm>
        </p:grpSpPr>
        <p:grpSp>
          <p:nvGrpSpPr>
            <p:cNvPr id="43" name=""/>
            <p:cNvGrpSpPr/>
            <p:nvPr/>
          </p:nvGrpSpPr>
          <p:grpSpPr>
            <a:xfrm>
              <a:off x="496800" y="264960"/>
              <a:ext cx="5349960" cy="2400480"/>
              <a:chOff x="496800" y="264960"/>
              <a:chExt cx="5349960" cy="2400480"/>
            </a:xfrm>
          </p:grpSpPr>
          <p:pic>
            <p:nvPicPr>
              <p:cNvPr id="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96800" y="264960"/>
                <a:ext cx="752760" cy="8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16440" y="1076040"/>
                <a:ext cx="733320" cy="77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20920" y="1082520"/>
                <a:ext cx="750600" cy="75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09760" y="1931760"/>
                <a:ext cx="707760" cy="73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033720" y="304560"/>
                <a:ext cx="709560" cy="75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052800" y="1873080"/>
                <a:ext cx="72540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1300320" y="372960"/>
                <a:ext cx="1498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hange a 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Comic Sans MS"/>
                  </a:rPr>
                  <a:t>ver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243080" y="1068120"/>
                <a:ext cx="1251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hange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800080"/>
                    </a:solidFill>
                    <a:latin typeface="Comic Sans MS"/>
                  </a:rPr>
                  <a:t>connec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710160" y="477720"/>
                <a:ext cx="2031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hange an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Comic Sans MS"/>
                  </a:rPr>
                  <a:t>adjec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262160" y="2116080"/>
                <a:ext cx="151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hange a </a:t>
                </a:r>
                <a:r>
                  <a:rPr b="0" lang="en-US" sz="1400" spc="-1" strike="noStrike">
                    <a:solidFill>
                      <a:srgbClr val="009300"/>
                    </a:solidFill>
                    <a:latin typeface="Comic Sans MS"/>
                  </a:rPr>
                  <a:t>nou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719520" y="1249200"/>
                <a:ext cx="199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hange the subjec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738600" y="1935000"/>
                <a:ext cx="2108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make the sentence negative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3773520" y="1332000"/>
              <a:ext cx="1744560" cy="315720"/>
            </a:xfrm>
            <a:custGeom>
              <a:avLst/>
              <a:gdLst/>
              <a:ahLst/>
              <a:rect l="l" t="t" r="r" b="b"/>
              <a:pathLst>
                <a:path w="1099" h="199">
                  <a:moveTo>
                    <a:pt x="0" y="0"/>
                  </a:moveTo>
                  <a:lnTo>
                    <a:pt x="1098" y="0"/>
                  </a:lnTo>
                  <a:lnTo>
                    <a:pt x="1098" y="198"/>
                  </a:lnTo>
                  <a:lnTo>
                    <a:pt x="0" y="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72000" y="1211400"/>
              <a:ext cx="2527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Comic Sans MS"/>
                </a:rPr>
                <a:t>Throw again! Tira otra ve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89160" y="1344600"/>
              <a:ext cx="1352520" cy="217440"/>
            </a:xfrm>
            <a:custGeom>
              <a:avLst/>
              <a:gdLst/>
              <a:ahLst/>
              <a:rect l="l" t="t" r="r" b="b"/>
              <a:pathLst>
                <a:path w="852" h="137">
                  <a:moveTo>
                    <a:pt x="0" y="0"/>
                  </a:moveTo>
                  <a:lnTo>
                    <a:pt x="851" y="0"/>
                  </a:lnTo>
                  <a:lnTo>
                    <a:pt x="851" y="136"/>
                  </a:lnTo>
                  <a:lnTo>
                    <a:pt x="0" y="1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14720" y="1087560"/>
              <a:ext cx="907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mic Sans MS"/>
                </a:rPr>
                <a:t>subjec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428760" y="190440"/>
            <a:ext cx="5349600" cy="2400480"/>
            <a:chOff x="428760" y="190440"/>
            <a:chExt cx="5349600" cy="240048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428760" y="190440"/>
              <a:ext cx="752400" cy="8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948040" y="1001880"/>
              <a:ext cx="733320" cy="77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452520" y="1008000"/>
              <a:ext cx="75096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441360" y="1857240"/>
              <a:ext cx="708120" cy="73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2965320" y="230040"/>
              <a:ext cx="70992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984400" y="1798560"/>
              <a:ext cx="72576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231920" y="2984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change a </a:t>
              </a:r>
              <a:r>
                <a:rPr b="0" lang="en-GB" sz="1400" spc="-1" strike="noStrike">
                  <a:solidFill>
                    <a:srgbClr val="ff0000"/>
                  </a:solidFill>
                  <a:latin typeface="Comic Sans MS"/>
                </a:rPr>
                <a:t>ver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74680" y="993600"/>
              <a:ext cx="1251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change t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400" spc="-1" strike="noStrike">
                  <a:solidFill>
                    <a:srgbClr val="800080"/>
                  </a:solidFill>
                  <a:latin typeface="Comic Sans MS"/>
                </a:rPr>
                <a:t>connec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41760" y="403200"/>
              <a:ext cx="203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change an </a:t>
              </a:r>
              <a:r>
                <a:rPr b="0" lang="en-GB" sz="1400" spc="-1" strike="noStrike">
                  <a:solidFill>
                    <a:srgbClr val="0000ff"/>
                  </a:solidFill>
                  <a:latin typeface="Comic Sans MS"/>
                </a:rPr>
                <a:t>adjec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93760" y="2041560"/>
              <a:ext cx="151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change a </a:t>
              </a:r>
              <a:r>
                <a:rPr b="0" lang="en-GB" sz="1400" spc="-1" strike="noStrike">
                  <a:solidFill>
                    <a:srgbClr val="009300"/>
                  </a:solidFill>
                  <a:latin typeface="Comic Sans MS"/>
                </a:rPr>
                <a:t>no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651120" y="1174680"/>
              <a:ext cx="199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change the sub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70200" y="1860480"/>
              <a:ext cx="2108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make the sentence negativ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50760" y="2698920"/>
            <a:ext cx="7537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a mujer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mira </a:t>
            </a:r>
            <a:r>
              <a:rPr b="0" lang="en-GB" sz="2000" spc="-1" strike="noStrike">
                <a:solidFill>
                  <a:srgbClr val="00ff00"/>
                </a:solidFill>
                <a:latin typeface="Comic Sans MS"/>
              </a:rPr>
              <a:t>un perro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enorme </a:t>
            </a:r>
            <a:r>
              <a:rPr b="0" lang="en-GB" sz="2000" spc="-1" strike="noStrike">
                <a:solidFill>
                  <a:srgbClr val="800080"/>
                </a:solidFill>
                <a:latin typeface="Comic Sans MS"/>
              </a:rPr>
              <a:t>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baila con </a:t>
            </a:r>
            <a:r>
              <a:rPr b="0" lang="en-GB" sz="2000" spc="-1" strike="noStrike">
                <a:solidFill>
                  <a:srgbClr val="00ff00"/>
                </a:solidFill>
                <a:latin typeface="Comic Sans MS"/>
              </a:rPr>
              <a:t>una mesa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alta</a:t>
            </a:r>
            <a:r>
              <a:rPr b="0" lang="en-GB" sz="2100" spc="-1" strike="noStrike">
                <a:solidFill>
                  <a:srgbClr val="0000ff"/>
                </a:solidFill>
                <a:latin typeface="Comic Sans MS"/>
              </a:rPr>
              <a:t>.</a:t>
            </a:r>
            <a:r>
              <a:rPr b="0" lang="en-GB" sz="20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28760" y="190440"/>
            <a:ext cx="947520" cy="1049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602160" y="1228680"/>
            <a:ext cx="922320" cy="998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57200" y="1236600"/>
            <a:ext cx="946080" cy="973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46040" y="2325600"/>
            <a:ext cx="890640" cy="939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3622680" y="239760"/>
            <a:ext cx="895320" cy="973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3648240" y="2251080"/>
            <a:ext cx="912600" cy="963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60520" y="345960"/>
            <a:ext cx="18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nge a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84200" y="1241280"/>
            <a:ext cx="15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ng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89560" y="479520"/>
            <a:ext cx="25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nge an ad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2584440"/>
            <a:ext cx="18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nge a 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98920" y="1460520"/>
            <a:ext cx="24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nge the su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46440" y="2317680"/>
            <a:ext cx="26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ke the sentence neg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06:47:40Z</dcterms:created>
  <dc:creator>Katy Oliver</dc:creator>
  <dc:description/>
  <dc:language>en-US</dc:language>
  <cp:lastModifiedBy>Katy Oliver</cp:lastModifiedBy>
  <dcterms:modified xsi:type="dcterms:W3CDTF">2012-03-02T16:04:14Z</dcterms:modified>
  <cp:revision>2</cp:revision>
  <dc:subject/>
  <dc:title>Slide 1</dc:title>
</cp:coreProperties>
</file>